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5480" y="708120"/>
            <a:ext cx="471492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657-AA5D-45CC-AE9F-19489593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714920" cy="3535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50A-726A-49FF-A971-BB54F795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0D9-B145-47C5-B42E-AD43CC9B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148-893E-4931-9817-C8C57380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D0F-0C87-48EF-A863-3130C9BD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233-7DF1-4ACE-A1B9-E14745EE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08C7-BB67-45A8-81D3-8309FD58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33C0-B313-4CF0-A964-A8790AD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14B-684D-41F7-9879-C5A69C7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A08D-25A7-46CD-8E43-3C6DD44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EDC-86F2-4318-97C4-1C77108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9602-2928-4745-9FB7-A3D3D28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6DD-625E-45B8-80E3-A2BBE8A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A5B-5837-493F-9CB3-E9D508C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B7C-E244-40CA-9364-CDBB087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7E11-F3C0-4A11-8B00-D0C7A85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1DA-BBA0-46DF-9E28-C1E688C5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077-73CD-4ACE-8C85-BE66BD3E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B2A-715F-43B6-8A14-F5F3477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3A5-942B-4804-8AD5-3F5CAF8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95D-94A1-455F-8400-498A8E90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31D-7D46-4785-8880-E98E6079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665-ADE0-4893-ADF9-EF720F5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191-2699-4735-93F9-2C58A8D2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E56-1241-4103-8FD7-CB0A9D5C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69C2-CD0B-461C-9C37-4978FBE7B7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5AFF-CC88-49C8-8219-81C7961EBB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day, September 27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angle postula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Classify angles as acute, obtuse or r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Why is it important to be prepared for the AIMS test?  (AT LEAST three sentences?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IMS QUIZ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uesday, September 28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288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Find the area and perimeter of a square with sides of 4 c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: Page 63, problems 1-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ptember 30, 20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 -7x(3x-10) +3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meter, Circumference,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: Lesson 1.7, problems 9-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view for Ex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09-29T19:53:26Z</dcterms:modified>
  <cp:revision>44</cp:revision>
  <dc:subject/>
  <dc:title>Slide 1</dc:title>
</cp:coreProperties>
</file>